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106-68B9-4E5E-B99F-CEF7D430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D5E-185D-41F7-ACEA-601D3627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30A-C90C-4215-9D34-E9B8CC14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868-9233-459A-AD44-C0575703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EB9-B539-4F5E-9283-6BC76927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B78-E976-4FCD-8E05-9C6E9D4B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238-4228-4585-B1E9-0DEDDEC5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852-587C-457E-A1D3-C912F5B3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981-B85E-4D23-8508-E55EEA3A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055-C93E-43BE-8DE4-7CE2EB84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2DD-7231-4E00-8CAF-94E12D1F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AA8-7732-43A8-9C60-8E456DBC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BFB3-D012-4753-B034-FF8572221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934320" cy="59436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400440" y="6095880"/>
            <a:ext cx="2209680" cy="642600"/>
            <a:chOff x="6400440" y="6095880"/>
            <a:chExt cx="2209680" cy="642600"/>
          </a:xfrm>
        </p:grpSpPr>
        <p:sp>
          <p:nvSpPr>
            <p:cNvPr id="43" name=""/>
            <p:cNvSpPr/>
            <p:nvPr/>
          </p:nvSpPr>
          <p:spPr>
            <a:xfrm flipH="1">
              <a:off x="6400440" y="6324480"/>
              <a:ext cx="4568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57640" y="6095880"/>
              <a:ext cx="1752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@ 1mint  is ok as it i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400440" y="3581280"/>
            <a:ext cx="2514600" cy="824040"/>
            <a:chOff x="6400440" y="3581280"/>
            <a:chExt cx="2514600" cy="824040"/>
          </a:xfrm>
        </p:grpSpPr>
        <p:sp>
          <p:nvSpPr>
            <p:cNvPr id="46" name=""/>
            <p:cNvSpPr/>
            <p:nvPr/>
          </p:nvSpPr>
          <p:spPr>
            <a:xfrm flipH="1">
              <a:off x="6400440" y="3809880"/>
              <a:ext cx="649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49880" y="3581280"/>
              <a:ext cx="186516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 @ 15mint lightgreen in ce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120" y="2514600"/>
            <a:ext cx="2590920" cy="580680"/>
            <a:chOff x="6324120" y="2514600"/>
            <a:chExt cx="2590920" cy="580680"/>
          </a:xfrm>
        </p:grpSpPr>
        <p:sp>
          <p:nvSpPr>
            <p:cNvPr id="49" name=""/>
            <p:cNvSpPr/>
            <p:nvPr/>
          </p:nvSpPr>
          <p:spPr>
            <a:xfrm flipH="1">
              <a:off x="6324120" y="2743200"/>
              <a:ext cx="668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3000" y="2514600"/>
              <a:ext cx="19220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6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 @ 30mint light red in ce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324120" y="1523880"/>
            <a:ext cx="2590920" cy="520200"/>
            <a:chOff x="6324120" y="1523880"/>
            <a:chExt cx="2590920" cy="520200"/>
          </a:xfrm>
        </p:grpSpPr>
        <p:sp>
          <p:nvSpPr>
            <p:cNvPr id="52" name=""/>
            <p:cNvSpPr/>
            <p:nvPr/>
          </p:nvSpPr>
          <p:spPr>
            <a:xfrm flipH="1">
              <a:off x="6324120" y="1752480"/>
              <a:ext cx="668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993000" y="1523880"/>
              <a:ext cx="19220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 @ 50mint dark red color on cent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143000" y="3049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522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mint plot of can heating from 25 to 127 °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2480" y="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erature profile inside the can at different times during Cherry pomace Ret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066680"/>
            <a:ext cx="8762760" cy="5791320"/>
            <a:chOff x="0" y="1066680"/>
            <a:chExt cx="8762760" cy="5791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4965480" y="3962520"/>
              <a:ext cx="379728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4892760" y="1219320"/>
              <a:ext cx="3870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066680"/>
              <a:ext cx="38700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3962520"/>
              <a:ext cx="38700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24200" y="2666880"/>
              <a:ext cx="16066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1120" y="5257800"/>
              <a:ext cx="16066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the color change( for the can) based on time and referring to the first Mint as I showed in first slide on the color lege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ean as in slide 2 at time 15 mint the center temperature should be light green( 8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going out to yellow light red and dark red ( As shown in first slide for the can at 1 m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r time at 50 mint( 125.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t should be red to dark 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ny way to do that and control the color based on time of heating and refering to the first mint of heating legend color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22:35:47Z</dcterms:created>
  <dc:creator>greibyib</dc:creator>
  <dc:description/>
  <dc:language>en-US</dc:language>
  <cp:lastModifiedBy>greibyib</cp:lastModifiedBy>
  <dcterms:modified xsi:type="dcterms:W3CDTF">2011-05-05T17:44:16Z</dcterms:modified>
  <cp:revision>4</cp:revision>
  <dc:subject/>
  <dc:title>Slide 1</dc:title>
</cp:coreProperties>
</file>